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40-167A-4337-BBDE-EBE4359F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C7A-BE53-4B73-B1BC-45723D58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7F8-CCD2-4D02-ADA4-2C035E35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B4CC-E8B8-43F7-BC78-A3EE71EF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B53E-ADE4-426E-89CD-3B84F300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46F-BB75-4021-9B33-087CCE07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369B-DFBA-4275-9E2C-7592F05B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58F-2252-4859-B456-9245D765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43C-58ED-4D9C-B3E7-A6F19EF3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2860-F79B-4025-A692-2CBC4EC7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A2E-8347-4A96-855A-F3889384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E00D-14F9-4E6B-B7DF-0F0CCFD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6EED-87D8-44CC-8B66-AC492CC8E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xploratorium.edu/exhibits/embryo/embryoflash.html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for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stigial structures - body parts that are reduced in size &amp; appear to serve no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5181480" cy="363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43178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ryo - an organism in its earli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ges o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vertebrate embryos have a tail, gill slits and arched blood vessels at some point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hich embryo is hum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-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enetic change in a population of organism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267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ontology - 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from fossil records leads scientists to believe that simple organisms were more common during the early history of Earth and living things evolved into more complex organism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ssil record is incomplete; not every species of organism that dies is preserved as a fos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 Evidence - Ca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8991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&amp; RNA comparisons - if two organisms share similar DNA or RNA sequences, they are probably closely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80010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chem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 protein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60962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logous structures - similar structures having a similar origin; may or may not have a simila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80808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ve Anat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ous structures - structures with similar functions but not similar structure or orig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at-insulated &amp; streamlined body shape of seal (mammal) &amp; penguin (bi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3429000" cy="2895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3047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29:16Z</dcterms:created>
  <dc:creator>Clayton Johns</dc:creator>
  <dc:description/>
  <dc:language>en-US</dc:language>
  <cp:lastModifiedBy>Clayton Johns</cp:lastModifiedBy>
  <dcterms:modified xsi:type="dcterms:W3CDTF">2009-03-12T17:40:18Z</dcterms:modified>
  <cp:revision>9</cp:revision>
  <dc:subject/>
  <dc:title>Evidence for Evolution</dc:title>
</cp:coreProperties>
</file>